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9FA-1B37-49E2-9FA2-C83F5961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8D8-2CBF-438B-B6DB-0650BE84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AD1-BC2C-41D7-950D-0FF1AC40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8F7-E51D-4D76-B92B-B0A04B97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91A-1940-4CAA-AFEC-ECB1EDEE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2BB-804E-4B9C-9D72-B30BA411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175-348A-4104-8C59-D1AB6634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71B-CF4C-4B63-8A55-24E3E627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E64-2C05-438D-8358-9F662F57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914-B2A2-4401-B245-E8963D7D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B73-BCF2-4C9C-96A2-66CAD99E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243-BFAD-4512-A22C-30CF9E78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48B5-6C66-4340-B27A-362AC2112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edrockadventure.com/gallery/main.php?g2_view=core.DownloadItem&amp;g2_itemId=233&amp;g2_serialNumber=2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img.kb.dk/ha/cms/bordesholm.jpg&amp;imgrefurl=http://www.kb.dk/en/kb/nb/ha/rare_books/index.html&amp;h=312&amp;w=375&amp;sz=22&amp;hl=en&amp;start=28&amp;usg=__Ry-oaxbNP_QxONVv_NV1c1X-Dc8=&amp;tbnid=AYF6NOiA4Z5zqM:&amp;tbnh=102&amp;tbnw=122&amp;prev=/images%3Fq%3Dbook%26start%3D20%26gbv%3D2%26ndsp%3D20%26hl%3Den%26sa%3D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24oranges.nl/wp-content/uploads/2008/04/oil-dvortygirl.jpg&amp;imgrefurl=http://www.24oranges.nl/tag/mafia/&amp;h=203&amp;w=200&amp;sz=9&amp;hl=en&amp;start=5&amp;usg=__eOXooS4Hf7sTKBusDVjCUjjhuYI=&amp;tbnid=gLmATYI3Ot-5HM:&amp;tbnh=105&amp;tbnw=103&amp;prev=/images%3Fq%3Doil%2Bfor%2Bcar%26gbv%3D2%26hl%3Den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www.boxesonthemove.ca/images/products/dollies/dolly3_lg.jpg&amp;imgrefurl=http://www.boxesonthemove.ca/dollies.htm&amp;h=450&amp;w=450&amp;sz=12&amp;hl=en&amp;start=2&amp;usg=__6rFoOUcujs3ud-gM1oIR5jZedb0=&amp;tbnid=Hyg3t7pcP7-sfM:&amp;tbnh=127&amp;tbnw=127&amp;prev=/images%3Fq%3Ddolly%2Bfor%2Bmoving%26gbv%3D2%26hl%3Den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air i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cu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air resista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a vacuum, all objects fall at the same spe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1316160"/>
            <a:ext cx="7467840" cy="5092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6640" y="564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22" y="15677"/>
                </a:moveTo>
                <a:lnTo>
                  <a:pt x="2322" y="1567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7880" y="3951360"/>
            <a:ext cx="179280" cy="514440"/>
          </a:xfrm>
          <a:custGeom>
            <a:avLst/>
            <a:gdLst/>
            <a:ahLst/>
            <a:rect l="l" t="t" r="r" b="b"/>
            <a:pathLst>
              <a:path w="497" h="1429">
                <a:moveTo>
                  <a:pt x="1885" y="11867"/>
                </a:moveTo>
                <a:lnTo>
                  <a:pt x="1885" y="11867"/>
                </a:lnTo>
              </a:path>
              <a:path w="497" h="1429">
                <a:moveTo>
                  <a:pt x="1925" y="11728"/>
                </a:moveTo>
                <a:cubicBezTo>
                  <a:pt x="1925" y="11708"/>
                  <a:pt x="1925" y="11701"/>
                  <a:pt x="1905" y="11708"/>
                </a:cubicBezTo>
                <a:cubicBezTo>
                  <a:pt x="1925" y="11715"/>
                  <a:pt x="1937" y="11746"/>
                  <a:pt x="1945" y="11748"/>
                </a:cubicBezTo>
                <a:cubicBezTo>
                  <a:pt x="1985" y="11759"/>
                  <a:pt x="1989" y="11772"/>
                  <a:pt x="2004" y="11728"/>
                </a:cubicBezTo>
                <a:cubicBezTo>
                  <a:pt x="2006" y="11721"/>
                  <a:pt x="2021" y="11650"/>
                  <a:pt x="2024" y="11648"/>
                </a:cubicBezTo>
                <a:cubicBezTo>
                  <a:pt x="2029" y="11644"/>
                  <a:pt x="2099" y="11614"/>
                  <a:pt x="2084" y="11609"/>
                </a:cubicBezTo>
                <a:cubicBezTo>
                  <a:pt x="2071" y="11609"/>
                  <a:pt x="2057" y="11609"/>
                  <a:pt x="2044" y="11609"/>
                </a:cubicBezTo>
                <a:cubicBezTo>
                  <a:pt x="2087" y="11616"/>
                  <a:pt x="2089" y="11623"/>
                  <a:pt x="2103" y="11668"/>
                </a:cubicBezTo>
                <a:cubicBezTo>
                  <a:pt x="2113" y="11698"/>
                  <a:pt x="2123" y="11713"/>
                  <a:pt x="2123" y="11748"/>
                </a:cubicBezTo>
                <a:cubicBezTo>
                  <a:pt x="2123" y="11793"/>
                  <a:pt x="2113" y="11807"/>
                  <a:pt x="2103" y="11827"/>
                </a:cubicBezTo>
                <a:cubicBezTo>
                  <a:pt x="2095" y="11843"/>
                  <a:pt x="2086" y="11882"/>
                  <a:pt x="2084" y="11886"/>
                </a:cubicBezTo>
                <a:cubicBezTo>
                  <a:pt x="2084" y="11913"/>
                  <a:pt x="2077" y="11919"/>
                  <a:pt x="2044" y="11906"/>
                </a:cubicBezTo>
                <a:cubicBezTo>
                  <a:pt x="2044" y="11952"/>
                  <a:pt x="2044" y="11999"/>
                  <a:pt x="2044" y="12045"/>
                </a:cubicBezTo>
                <a:cubicBezTo>
                  <a:pt x="2111" y="12056"/>
                  <a:pt x="2060" y="12050"/>
                  <a:pt x="2103" y="12065"/>
                </a:cubicBezTo>
              </a:path>
              <a:path w="497" h="1429">
                <a:moveTo>
                  <a:pt x="2084" y="11291"/>
                </a:moveTo>
                <a:cubicBezTo>
                  <a:pt x="2088" y="11326"/>
                  <a:pt x="2099" y="11358"/>
                  <a:pt x="2103" y="11390"/>
                </a:cubicBezTo>
                <a:cubicBezTo>
                  <a:pt x="2113" y="11473"/>
                  <a:pt x="2116" y="11565"/>
                  <a:pt x="2123" y="11648"/>
                </a:cubicBezTo>
                <a:cubicBezTo>
                  <a:pt x="2132" y="11759"/>
                  <a:pt x="2166" y="11848"/>
                  <a:pt x="2183" y="11966"/>
                </a:cubicBezTo>
                <a:cubicBezTo>
                  <a:pt x="2197" y="12065"/>
                  <a:pt x="2242" y="12143"/>
                  <a:pt x="2282" y="12224"/>
                </a:cubicBezTo>
                <a:cubicBezTo>
                  <a:pt x="2315" y="12291"/>
                  <a:pt x="2344" y="12329"/>
                  <a:pt x="2381" y="12382"/>
                </a:cubicBezTo>
                <a:cubicBezTo>
                  <a:pt x="2381" y="12389"/>
                  <a:pt x="2381" y="12395"/>
                  <a:pt x="2381" y="12402"/>
                </a:cubicBezTo>
                <a:cubicBezTo>
                  <a:pt x="2381" y="12299"/>
                  <a:pt x="2374" y="12237"/>
                  <a:pt x="2342" y="12144"/>
                </a:cubicBezTo>
                <a:cubicBezTo>
                  <a:pt x="2309" y="12048"/>
                  <a:pt x="2311" y="11938"/>
                  <a:pt x="2282" y="11847"/>
                </a:cubicBezTo>
                <a:cubicBezTo>
                  <a:pt x="2248" y="11739"/>
                  <a:pt x="2190" y="11661"/>
                  <a:pt x="2183" y="11549"/>
                </a:cubicBezTo>
                <a:cubicBezTo>
                  <a:pt x="2177" y="11453"/>
                  <a:pt x="2112" y="11400"/>
                  <a:pt x="2084" y="11311"/>
                </a:cubicBezTo>
                <a:cubicBezTo>
                  <a:pt x="2068" y="11260"/>
                  <a:pt x="2058" y="11197"/>
                  <a:pt x="2044" y="11152"/>
                </a:cubicBezTo>
                <a:cubicBezTo>
                  <a:pt x="2032" y="11114"/>
                  <a:pt x="2023" y="11087"/>
                  <a:pt x="2004" y="11053"/>
                </a:cubicBezTo>
                <a:cubicBezTo>
                  <a:pt x="1981" y="11091"/>
                  <a:pt x="1984" y="11102"/>
                  <a:pt x="1984" y="11152"/>
                </a:cubicBezTo>
                <a:cubicBezTo>
                  <a:pt x="1984" y="11235"/>
                  <a:pt x="2001" y="11307"/>
                  <a:pt x="2004" y="11390"/>
                </a:cubicBezTo>
                <a:cubicBezTo>
                  <a:pt x="2007" y="11485"/>
                  <a:pt x="2002" y="11579"/>
                  <a:pt x="2044" y="11668"/>
                </a:cubicBezTo>
                <a:cubicBezTo>
                  <a:pt x="2084" y="11752"/>
                  <a:pt x="2071" y="11818"/>
                  <a:pt x="2103" y="11906"/>
                </a:cubicBezTo>
                <a:cubicBezTo>
                  <a:pt x="2125" y="11966"/>
                  <a:pt x="2142" y="11990"/>
                  <a:pt x="2183" y="12025"/>
                </a:cubicBezTo>
                <a:cubicBezTo>
                  <a:pt x="2183" y="11956"/>
                  <a:pt x="2164" y="11967"/>
                  <a:pt x="2143" y="11906"/>
                </a:cubicBezTo>
                <a:cubicBezTo>
                  <a:pt x="2125" y="11852"/>
                  <a:pt x="2100" y="11785"/>
                  <a:pt x="2084" y="11728"/>
                </a:cubicBezTo>
                <a:cubicBezTo>
                  <a:pt x="2084" y="11721"/>
                  <a:pt x="2084" y="11715"/>
                  <a:pt x="2084" y="11708"/>
                </a:cubicBezTo>
              </a:path>
              <a:path w="497" h="1429">
                <a:moveTo>
                  <a:pt x="2203" y="10974"/>
                </a:moveTo>
                <a:cubicBezTo>
                  <a:pt x="2190" y="11017"/>
                  <a:pt x="2183" y="11047"/>
                  <a:pt x="2183" y="11093"/>
                </a:cubicBezTo>
                <a:cubicBezTo>
                  <a:pt x="2183" y="11295"/>
                  <a:pt x="2149" y="11534"/>
                  <a:pt x="2203" y="11728"/>
                </a:cubicBezTo>
                <a:cubicBezTo>
                  <a:pt x="2221" y="11793"/>
                  <a:pt x="2247" y="11857"/>
                  <a:pt x="2282" y="11906"/>
                </a:cubicBezTo>
                <a:cubicBezTo>
                  <a:pt x="2311" y="11947"/>
                  <a:pt x="2336" y="11959"/>
                  <a:pt x="2381" y="11966"/>
                </a:cubicBezTo>
                <a:cubicBezTo>
                  <a:pt x="2381" y="11897"/>
                  <a:pt x="2363" y="11907"/>
                  <a:pt x="2342" y="11847"/>
                </a:cubicBezTo>
                <a:cubicBezTo>
                  <a:pt x="2323" y="11792"/>
                  <a:pt x="2287" y="11725"/>
                  <a:pt x="2282" y="11668"/>
                </a:cubicBezTo>
                <a:cubicBezTo>
                  <a:pt x="2273" y="11558"/>
                  <a:pt x="2298" y="11480"/>
                  <a:pt x="2242" y="11390"/>
                </a:cubicBezTo>
                <a:cubicBezTo>
                  <a:pt x="2226" y="11364"/>
                  <a:pt x="2220" y="11302"/>
                  <a:pt x="2183" y="11291"/>
                </a:cubicBezTo>
                <a:cubicBezTo>
                  <a:pt x="2150" y="11291"/>
                  <a:pt x="2143" y="11291"/>
                  <a:pt x="2123" y="11291"/>
                </a:cubicBezTo>
                <a:cubicBezTo>
                  <a:pt x="2123" y="11349"/>
                  <a:pt x="2111" y="11393"/>
                  <a:pt x="2103" y="11450"/>
                </a:cubicBezTo>
                <a:cubicBezTo>
                  <a:pt x="2090" y="11539"/>
                  <a:pt x="2103" y="11638"/>
                  <a:pt x="2103" y="117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Universal Gra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201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1447920"/>
            <a:ext cx="7238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ton’s Law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erti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tendency of an object to stay at rest or in 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 push or pull needed to move or stop an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wton’s First Law of Mo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bject at rest will remain at rest or move at a common speed in a straight line unless it is acted on by an unbalanced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low down a moving object, a force must act in the direction opposite to that of the motion.  This is cal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i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force that opposes the motion of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different types of Fri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ing fri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book sliding across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achute slowing down a sky d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ling 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ke wheels on the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4114800"/>
            <a:ext cx="3581280" cy="2387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Skydiver with Red, White and Blue Parachute Photographic Print"/>
          <p:cNvPicPr/>
          <p:nvPr/>
        </p:nvPicPr>
        <p:blipFill>
          <a:blip r:embed="rId3"/>
          <a:stretch/>
        </p:blipFill>
        <p:spPr>
          <a:xfrm>
            <a:off x="6400800" y="1828800"/>
            <a:ext cx="2278080" cy="30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1981080"/>
            <a:ext cx="20574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summarize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 makes motion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 makes stopping or slowing down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 can caus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 can wear thing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419200" cy="2198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4419720"/>
            <a:ext cx="2666880" cy="201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304776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rt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overcome in order to move an object at rest or stop an object in motion. The force that slows things down, produces heat, and wears things down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i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is a push or p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acts in a certain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examples of force in na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ing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 makes it hard to move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vercome friction takes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ng friction makes it easier to mov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ing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ways to reduce friction. 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362320"/>
            <a:ext cx="3886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brica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a substance used to reduce fri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286000"/>
            <a:ext cx="3962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sli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iction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iction by using 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3962520"/>
            <a:ext cx="2541600" cy="2590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3886200"/>
            <a:ext cx="234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changing the amount of force needed to move an object, sometimes we want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ts 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hange of motion of an object depends on the mass of the object and the force appli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Law- force, mass and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4674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mula for the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ce equals mass times accel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 =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lo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g)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ers/sec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m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ve the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ce is needed to accelerate a 2-kg mass at 1 m/sec/se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rd would you have to push a 50kg skater to increase her speed by 2 m/sec/se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of an object if a force of 10N causes it to accelerate at 5 m/sec/se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up 3 problems based on the formula F=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ra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y is a force of attraction between all objects in the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ravity of the Earth pulls objects towards the center of the planet."/>
          <p:cNvPicPr/>
          <p:nvPr/>
        </p:nvPicPr>
        <p:blipFill>
          <a:blip r:embed="rId1"/>
          <a:stretch/>
        </p:blipFill>
        <p:spPr>
          <a:xfrm>
            <a:off x="2590920" y="24382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ravity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420920"/>
            <a:ext cx="73911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y, Mass and D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gravitational force of an object depends on it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with more mass has more gravitation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gravitational force of an object depends on its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ce of gravity between 2 objects decreases as the distance between them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is measured using a NEW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8N are needed to lift a 1kg mass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does not change, but weight depends on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eigh less on the Moon than you do on Earth, but your mass does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and W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960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r Resistance and falling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r 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force that opposes the movement of an object in the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er objects feel more air resistance than heavie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with greater surface area feel more resistance than objects with smaller surfac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Velo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peed at which air resistance and gravity acting on a falling object are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lling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960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7:13:50Z</dcterms:created>
  <dc:creator>SGANSK</dc:creator>
  <dc:description/>
  <dc:language>en-US</dc:language>
  <cp:lastModifiedBy>SGANSK</cp:lastModifiedBy>
  <dcterms:modified xsi:type="dcterms:W3CDTF">2010-09-20T15:41:30Z</dcterms:modified>
  <cp:revision>11</cp:revision>
  <dc:subject/>
  <dc:title>Slide 1</dc:title>
</cp:coreProperties>
</file>